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173277"/>
        <c:axId val="65184427"/>
      </c:barChart>
      <c:catAx>
        <c:axId val="451732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184427"/>
        <c:crosses val="autoZero"/>
        <c:auto val="1"/>
        <c:lblAlgn val="ctr"/>
        <c:lblOffset val="100"/>
        <c:noMultiLvlLbl val="0"/>
      </c:catAx>
      <c:valAx>
        <c:axId val="651844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1732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A8E1-BE79-4900-B0A5-8EA1AE4E0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4EBE-9BB5-439B-A04D-F3E5DD84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8AE5-7F4F-46B8-959C-E5C459C60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6627-FD74-41B1-B186-4A653ABB4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E9D5-0239-4C7F-B088-AB7CB36F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181D-2BB1-4675-8058-757EE778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6E96-3671-40A9-A04A-8C923767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26E6-6C82-41EB-957E-8EEA5BA5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5BFE-7893-449B-8F53-5001EA2E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4FA4-A830-422B-8995-D60BA94C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A74F-84DE-406E-8D15-29B804A4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3CE3-0996-43D9-AB98-977BA579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695A00-3B15-4341-930A-56B5C721CC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