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523"/>
        <c:axId val="60042415"/>
      </c:barChart>
      <c:catAx>
        <c:axId val="9574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2415"/>
        <c:crosses val="autoZero"/>
        <c:auto val="1"/>
        <c:lblAlgn val="ctr"/>
        <c:lblOffset val="100"/>
        <c:noMultiLvlLbl val="0"/>
      </c:catAx>
      <c:valAx>
        <c:axId val="6004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275-806E-4024-A8F3-9CCDA6A3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4E7-28F9-4546-8FC7-DE1BC581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BC4-BE4E-4346-BC9F-E8BCC5C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B2A-1428-4154-BE2C-1E3C706A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1A8-4DB8-4651-BE05-43B602C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031-D96F-48CA-A2A4-A1A6B12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FBE-CC49-49BA-A6BB-D6AE4C65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8DF-8DC6-45A3-845D-15F787A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7DB-80FE-4435-90FD-369590D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7CE-FABF-40BC-8624-9E78D5A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77E-DB02-462B-8E29-BB818C0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227-BEA2-426C-8FD4-6A9F228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7595-03E8-438D-B0A2-F6907AA7B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