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51824"/>
        <c:axId val="26099332"/>
      </c:barChart>
      <c:catAx>
        <c:axId val="70951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99332"/>
        <c:crosses val="autoZero"/>
        <c:auto val="1"/>
        <c:lblAlgn val="ctr"/>
        <c:lblOffset val="100"/>
        <c:noMultiLvlLbl val="0"/>
      </c:catAx>
      <c:valAx>
        <c:axId val="26099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51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B12-0BE2-466B-A45B-D2E9CA05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8AD-4B7B-4AFD-9BB3-A475DAB7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C0B-EF30-431C-ADBE-6FFF52F2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2B4-1AE5-4D4E-B566-106F36F9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2EF-1996-48A0-BC0B-7C9B4A64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9C3-D5A9-42BA-AF01-6B29C24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E75-B3B0-4361-9DE0-4370EB89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EEB-C4A6-49CB-9406-D705FC53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B7C-FEEA-4FB9-82BF-1040FA67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F95-F5DD-4219-AB76-218DC6F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53A-BAA2-4907-A848-A3C58AAE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CC9-B0C5-4ED6-A55C-E199E6E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45D8A-0713-4573-BDA9-1423DBAECB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