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0202"/>
        <c:axId val="62752836"/>
      </c:barChart>
      <c:catAx>
        <c:axId val="93910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52836"/>
        <c:crosses val="autoZero"/>
        <c:auto val="1"/>
        <c:lblAlgn val="ctr"/>
        <c:lblOffset val="100"/>
        <c:noMultiLvlLbl val="0"/>
      </c:catAx>
      <c:valAx>
        <c:axId val="62752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0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9AA-190C-4854-8727-C170A4B8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C41-8D00-4E2C-B277-33FC579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177-6524-4D5A-A97E-3AA55D3D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2C3-B4F5-4010-9A3D-4E52A2BA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DFC-2D3F-44C8-9819-A7D1CD06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A63-1BD5-458A-96EA-073BE32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98E-A31F-4C49-9213-9820A199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9CA-8C59-4F93-9B8E-33F3D60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C5F-3830-4D3D-B21B-7FBF1C97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77B-BFCB-4515-9680-24E048DD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79B-DF46-4483-B361-D139B5E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8A8-833C-472B-8346-2651EFB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4EEE-B938-43CF-B16E-E3F06336E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