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84205"/>
        <c:axId val="74656001"/>
      </c:barChart>
      <c:catAx>
        <c:axId val="11284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6001"/>
        <c:crosses val="autoZero"/>
        <c:auto val="1"/>
        <c:lblAlgn val="ctr"/>
        <c:lblOffset val="100"/>
        <c:noMultiLvlLbl val="0"/>
      </c:catAx>
      <c:valAx>
        <c:axId val="74656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84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6A0-D82E-4A57-BE1D-EF5B284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0E0-F8D7-4AEB-854A-FF4D1E59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EFD-8A25-4F77-B4EC-A03A6A71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74D-147B-4823-9692-0CF61422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7C-949F-49E6-BB25-7DE659E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336-EDAA-43C3-93CB-1AB271D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BDE-BBB9-4E58-871F-1CBF723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6FE-92BD-4B84-8F13-CFE7DD5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410-120C-49AC-B4CA-095E05E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1D5-44D0-4274-A4A1-6A30E3B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2CA-1231-43DD-AB7C-DBD462B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851-BFB3-4738-AA96-2294475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4F12-60A4-4DCC-BDB3-DEF9F23D5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