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8786"/>
        <c:axId val="28436647"/>
      </c:barChart>
      <c:catAx>
        <c:axId val="41487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36647"/>
        <c:crosses val="autoZero"/>
        <c:auto val="1"/>
        <c:lblAlgn val="ctr"/>
        <c:lblOffset val="100"/>
        <c:noMultiLvlLbl val="0"/>
      </c:catAx>
      <c:valAx>
        <c:axId val="28436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87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F8A1-7A26-44D0-AAA2-C573D56A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302-5EF3-42A0-BCAC-DCFE35BA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50A2-DD4B-4206-94F0-697CC097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5270-0A52-41F3-8300-C7265788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4C48-6BD9-4ED7-BAC4-7DD7A4B7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E172-0E64-4BEF-8A01-54FE64CF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75E2-87E2-478F-BC8F-803FFE31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D27B-3172-4E37-9EBD-FB727CDC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C7BA-AF82-42F4-BF09-4AF3AC69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1A7F-F5F1-4C13-90D3-37406441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1048-EBC8-4BAF-9099-9C7B154B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976-CB64-45F0-835F-7B96A69B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329DF-E85D-4B64-9826-272979D1FA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