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8E0EB43-7C74-46C7-ADFA-9C69614BDCF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C8BD667-7547-4F84-868D-C03AB9913BE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B6568D5-CC6D-4960-A322-BDEAF617FBC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10AF5B8-72B0-40F2-ADF3-E7B38B87E9F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29D4E59-E7A9-4C59-BF72-DE102A641D6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AD8A381-2D7D-4FCB-955A-23CFCD84E61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7E18A0A-8B95-4EC8-8696-A7793466DB9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A8CE7E1-4DC7-4515-9D57-9C0AE924C9D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D89C06B-9086-458D-87D0-68527C39D65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CB5985E-2B52-4E78-9688-5E5E333D915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A38E6CA-0D9F-41FB-BD27-835555A9F2B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EFE8432-3D84-4C0A-B783-CD4F5725843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F91FFD2-A0D5-424F-AABE-A574635C31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A3AED2-17ED-4BC6-9EE1-11A01EFDDE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9B8C557-C0DE-4FCB-9E91-44B2CE77C9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F8D4913-608E-4C10-9045-BAC4D5D822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418F8B6-D2F0-4389-9102-0221B15399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45CEF0A-2FBB-453B-8195-A8BCB0E9BC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2A3DFCD-8292-42A4-81C7-9D785EF8646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AC4514B-487B-4B85-A572-3443743849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16DA75C-AAE6-455C-87E8-2C60D7C676C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A9C3858-B08F-4C91-AA90-DDA7261A85F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CE5BF72-DCDC-48D8-9C53-87D21CCE64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699DE8B-E13B-4CE5-9F2A-9873025FB6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75E09F0-B711-45CA-A14D-C96276AF0D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F2BC59B-23BC-484C-8890-DFAC3E2F0B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164B303-06BF-412A-ADB3-A1E5CD1A42B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227D977-C1D0-4C1E-8FD7-0BD3BD3589B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3424D07-4C1F-4760-903D-3D68F4248E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A03404-EA19-4824-9302-AAFF3D8904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4E1E3E-B7C8-4C6A-B60A-393C6CF027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3AD8B2-58C7-4755-B7D9-8E7A71A83C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CEBA5F-9816-40A3-9075-259A4BE58E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02C084-8A6B-4537-A7A8-247B6CF901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BB643E-CFA3-4BC4-8585-3DF91AC2FF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2071AE-A92C-4BB7-9C94-EF2C8806CD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13F3C-2594-4537-9041-2A4C4E715F8E}"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E74AB-1987-4EA4-A9E6-CDC761DF845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30741D-5C9B-4B66-B950-47265F7E0735}"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236075-0231-4415-8D16-EAFD8C369814}"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BC0CBA2-C4E0-4BB8-9FD6-0BF0ED27E631}"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C48A6A8-28B9-47B9-9D6E-4DB5B654823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1D11A81-35AA-468D-8A7A-E39ABA1D338D}"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54B12F4-2B64-495F-B9D4-604DD76D5EF7}"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667BA26-B9E4-4624-AE2C-BCBFC663CFCA}"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308879B-83FE-4C9E-95AD-FA219F5A30CB}"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7BE95E4-E3AB-4C79-B063-78E44861FDB7}"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4CB9DE-2F45-45F2-AD14-006D0CCB034D}"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29D73DC-E045-4320-B968-7D78A48B4D73}"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C3A3D2F9-E1BD-4748-8831-57BE501BCF1F}"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2D56B44-6AF1-4D93-B786-057C63EF1F88}"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D5F951C-704B-4387-8317-923BAAC7BF17}"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2DBCDE-0713-4AF3-BDC1-72C8219B82A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6452CFF-BA05-4755-B972-9CF1E6F6D209}"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8C966D1-4B15-4EC2-A0FE-B27C317AB3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F7FC825-8755-42E4-A27F-C683217018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3EF40E4-80D2-4381-8D64-B3218E9FAE0B}"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8A9F54-F3D3-4D2B-BB55-AED896B019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95F86A8-408A-4E14-B964-185D8A05A4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8368A5C-F9E3-415E-A914-C122AB9474E3}"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2B9F491-4F2A-4280-AA8F-D5FB481B2C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22E0A6A-6C34-4991-B86B-7FC7C3A799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CF267EC-7935-4082-9E2B-5719D61EB8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87E07FE-45CB-407E-B97E-CD9235C5C0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851990-9B3C-41D2-B334-A3411E7E2489}"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364FEF4-2FE0-4954-AA9D-0AC0F70087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B38370-1092-417F-AB3B-9FFD51D277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0FF9D6D-EA2A-4838-9E52-8AD446287A4B}"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F8BF2F-C302-4EFB-AC2A-22BE40BACB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57E9ED5-411C-4B62-AF82-F244EB14472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2C6536-4D72-4EBA-94C1-990354217FD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32D014-C4C3-4606-A865-C186A0A3AA1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2488F3B-1F57-4206-B0B0-B221098ACE1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74FF93-8F3A-4983-AD60-254DF96C35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70C5520-0ABA-4476-9D17-4259BB93221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F43FA9-7AD8-40F9-A173-4175EBE26C2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CB7DFBF-D36D-4B05-A9C2-BEECFF40A91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48E463-E2AF-4307-B17F-063632FD313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4416E1-734E-44ED-9FE2-B38757FD6A1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CCF7336-EC23-4589-A1F9-D5DC0E74582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A0C6165-AFAF-4831-89D9-51845FC3C42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880E40-709A-43C1-B7E5-0ADA40673FD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2650AB7-CA0F-46FE-BB8C-BE97BA8DFBD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93592D-664E-4B53-8EED-61053C4EB3B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B6741A-FE9F-461F-9011-472476CA4E0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AE62B7-F2C5-422A-BB41-83D566D963C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4FD725-A1B0-42AE-91BD-EE9AFA5BD5C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77BFC8-AE29-43C0-894C-D6988257F38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E81A3D-C5C6-4BD9-9DA6-AEEF5AD5C5D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9283D7E-624C-4AE7-B8E9-80E954DA4B5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5B91F09-C8BF-410B-AC48-EC5231523C82}"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873BF93-C10D-4860-ACF1-678E23D87A2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7C0391C-186A-409C-9D6A-4045EE1EE14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6C33475-0DEC-4755-8B6F-A22EDB013CA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19879EC-BE57-48DD-A00D-EBBF84EB523F}"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FCF9D5-311D-43E3-A574-C5E86114E89E}"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CB8BF1C-239B-4BC4-B150-8BF846804FA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AAE8ED7-4650-4B07-89DB-5CD5DF235B07}"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8888ACE-5D7C-4E7F-826A-D7CF91F8B5C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87333DD-E521-4BDB-B87B-B32EAADD9573}"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099075A-AD1D-4305-BBF3-67807B1427C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BBE8832-3CBB-4FB7-B3E4-75794F92DE6F}"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7EA860-856B-405B-AAE5-B1BF35C0E35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99165DE-95E0-4A3B-AA5C-E2157054D45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A87C134-0E9F-4CC1-9901-61CFF6A46BD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51D9E37-E412-4FBF-A5B9-D889C10D062C}"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2DE464-1EB2-463D-B015-AD1806676F6D}"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F1672E-BDE2-4743-A11B-A34230258E27}"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40A57F-3B8E-4B28-B96E-4DB0B5F1BFE1}"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57785E3-77B3-45A8-A371-D577528DA544}"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0D6ABA-FA84-42C8-A59D-D151B99F754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AFAEE2-8653-44FF-AA88-26D48F33074B}"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7A32770-AAE1-443A-BFE1-7A8B055A4970}"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6805B43-ECA7-4FC7-9C3A-A6D92C9B5C42}"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3A3F22-CCE3-4C4D-9753-3B915168F0AB}"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56DCD2-AADB-4D5B-A67F-34836A89E3B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24D32EF-4C0E-491E-AA32-0A67529AF392}"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4FD82E-47FD-4D02-82D4-A1031D4603F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00538C-02BC-4C9D-A33F-969496F49C5F}"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C4F33A-9D92-4909-A092-C85280D14D0A}"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63A9D4A-EAB2-4629-AF4F-A5EA0C69C530}"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9925C1B-25E2-48E5-89A5-56AAC5528730}"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448D9F-A8AF-4A76-9DF9-B2398D868D8A}"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E5C69D-02D0-4FB6-8F36-EFCC84B646A2}"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632690-5BD0-4FC5-A816-E711766CA6C2}"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2AAF50E-ADC7-47B7-852D-CC4E2007200D}"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BE20FA-EA46-4EC8-95C5-B16C93DCDBEA}"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AE7D17-FE4F-456B-B7C2-DE5C202501C6}"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68642F5-8E7D-4047-BF62-08919219465B}"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8975712-7064-4F70-8352-7D973BBF308C}"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9230C4-919F-4C41-A3BB-F86147541CAE}"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0F436D-FADF-480B-90EC-E0170935522A}"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D9C541-51B5-4798-A749-143A90CA4421}"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A79A795-E527-4D2B-81AB-4E47898CDE98}"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CD3027C-38C2-47A5-82C1-6997D3B50CE7}"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D6294C45-2A50-4B5C-BA48-01DE80020E95}"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406D01-6129-4249-A63F-C891A10DBFA5}"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1B40FB-9351-47D6-AAFC-56D9F36FB4C4}"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AB47032-9076-48F2-83FE-2AE2BC63F97A}"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2D66C8-FE1F-47A8-A2B6-1A319580DAF5}"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6EB2E9-FCE9-4422-AAF2-D76EC143D4F3}"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55BD66-216B-456E-A51F-E1ADD9E12066}"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5296C8-4BB3-49F1-9FEF-7479E95137B3}"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108F097-9982-4D07-95F7-9E3F13BCF748}"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8E7D5C6-BDA8-4BE8-A2B8-A2BA2DBC0E37}"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77D7B1-ADCF-4E39-BBF6-D7E00BC7660E}"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160024-8999-46CA-AEC6-BCC44A6EF49A}"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D4C8B5B-38E7-4E65-A019-39CE772FED6E}"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77219DF-1133-40B5-8FA7-87B8E609E87A}"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