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348BFE-7477-4092-ADAD-27745B25FF92}" type="datetime">
              <a:rPr b="0" lang="en-US" sz="1200" spc="-1" strike="noStrike">
                <a:solidFill>
                  <a:srgbClr val="000000"/>
                </a:solidFill>
                <a:latin typeface="Comic Sans MS"/>
              </a:rPr>
              <a:t>07/30/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CFA94B-C1E4-4BB1-B879-9C56039BBF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828B7C-71CD-4DB3-895C-E74CA3A9883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C208A4-697A-47A5-86EF-CD0451E3216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D6AEE1-CFAC-4CF9-85C7-CDF7111D77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DB579A-3930-48AC-86F7-C41379BBC9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391B41-875D-4827-B6FA-A56E489A1B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42BDEB-9709-4D67-AA57-CE6B7A3F1E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6A4460-575C-43F5-8628-EB4831CFDB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58BAE0-6049-4AC4-B005-E62D6A9E88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9F78B4-E682-4C5C-A810-E86DD2BC40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5424AD-73D5-42D3-A755-4925AF27B6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40DD69-B61E-4F04-B170-50686EDC46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FAF072-03E9-40DF-8F1E-9A660B0687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A84DE2-37BD-42CF-8462-1E2993AA34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7F2FB61-12C3-4E2D-96CC-73DD40EC35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76214E-228B-4E72-8D05-584141F0DE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C47756-B376-4FAB-86EF-A778854C2C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B308325-207A-4541-88B7-328A68BE49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70E635-FCEF-4691-8978-6D1DF7C892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7B532D2-DDE8-49C6-9E72-CF8B4121D5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C82099-F428-4037-9F56-87713BF6ED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5354C1-86FF-4B5F-BE4C-8CD22FCCA6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B9876F-DC46-4B8C-9C58-6BA280F2FB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A41973-3759-4839-9160-F92BF8C9A2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373C041-C7A5-4813-915B-2D2B5511F6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F9163B-933B-4085-92FA-6D2822E3BB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DAA0BAA-7702-4154-A861-F6E9DF788E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6718F7-7A39-4A7C-A7E9-3B935CD749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F3799C-ED0A-44F0-9CF9-B10A98A462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BEA038-532D-465E-A421-0D38D3EC3E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5D5E57-06FB-4C54-A8A4-0C1C7A357B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01370A-166A-4798-ACD5-B256704DA8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44510B-1617-48B1-A714-065942780F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207582-0326-4131-9E42-C2670B4A6E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50E0-CC36-48E0-B486-4BB035F4792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4F125-F865-4B97-A33B-3402E31EA0B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7D585348-4C94-4239-9C69-ED72FBF2CE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1D1A7C-C7DB-407D-ACC7-E9EBEE37B38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987DF0-2F1E-430B-816D-6C5885A0880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6DC865-EAB7-4079-9B5F-2D59017B2E6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3CD081-AB7A-42C7-B5E4-2E1C7C2E395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F33AE3-9746-4BCB-945F-586F1D1CEEBE}"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C91B0B-243C-40EC-A9B7-BFAF34927977}"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A559D2-2838-4E76-855C-D63A00350A0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5B672B-9B51-4337-9794-2D874F5D8FC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30F8A7-169A-432C-BC80-779FA340F3F3}"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C89AA2-4142-4A4B-903E-FB84BDD3F70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AE1143-E827-4822-BEDD-3BC53CE3AD9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21F299-A930-4AA4-A64D-8F8560406D9D}"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3DC0CA-E5F6-4D2D-A3D7-5DBD8BAECE14}"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2CB5F1-3053-41C1-937F-D3DFB22198D8}"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4F234F-3ED0-4809-963B-9A74019DA00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7C75E1-1A50-45F6-964D-B0D49CED739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82156B-0B53-4F22-A235-F50CFB65AA5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C74D7FE-989E-4655-A909-ACCAB277974C}"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5469F0C-15C3-4A78-B3DB-E7528DA79A3C}"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B821AD-4EFE-4334-8EAB-624E45D272D0}"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9719EB-E5C1-4175-AA76-CAA33AD22573}"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8B711A-1255-48F2-A667-6475F30F9E54}"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8EF222-7989-48DB-81A8-C3AD0A631A3B}"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1E88B7-BB30-48B8-A49C-8FD73C4B85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D3C07C-4ED8-47A4-9FEF-038BD67C0097}"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CE724E-3802-4519-A031-649E900E6A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04053E-79CC-4B6A-90BD-9A91C62B860D}"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330F5E6-6C7A-4C72-AB27-83B8E841DD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C683C6-4620-4DFE-8266-A42CBAC185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F83045-7203-4583-9E18-4A481D53FB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923A2E-EB23-4DC2-9AEA-010B6B02E4C8}"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739B6F-08D3-4DB7-85A9-E0C29ACF6B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8CBEA7-236D-47F3-BDA2-95574C517E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A0D4F1-D7FD-4029-B987-7B05E14D69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87CFB1-EAD0-4EDB-A410-4E510687273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A7E79E-4B8B-4687-A182-0776919F2C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CCBCA2-64C9-4234-B5AA-4FB7FC4714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0DC2AF-48C6-40DC-AA60-7D276CD476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D4A027-0A2C-46EE-82E7-A8D796E86307}"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59518F-833F-47CD-9B8F-87C17EAF1A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233D57-5F31-4174-A07D-4B5E58CB5A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90363E-538F-42D5-AA11-FD8F1AFD17B3}"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91429A-D77C-44D5-BF9D-F38277CB88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623859-F015-4161-B605-F73992F286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6C01E7-C485-4CE3-A6A3-98E4FA3FBB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DDF98B-5528-4B56-A611-D17116A079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792AE7-16B6-48C9-B974-AB94DE8AB57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5080FD-ECEA-44D2-B004-EA06A81264B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BFA383-C6B1-43A4-BEED-29530BEDAA6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56F2B0-E169-4725-9CD0-6AEDD485A5F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A1FECC-F76E-45E3-AB69-9AE86796B3B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AA8917-062B-44BB-A849-01FEBF6A042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E92F53-F291-4BC1-87AB-2F265C2042D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5CBC01-2289-45C9-80C8-466A7889B49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8946CA-DE19-4ABD-A52E-83A0D7AC07A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C72BFD-1EEC-4E70-96E6-258D79BC137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F66D53-919E-4734-994F-5F5DFCBB962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683BBB-1D8E-4609-B888-2F05FEE85CD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DF795E-9DAC-492C-943D-84C1F027C70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0287FD-C78A-4C78-8C30-3113126ACB0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977325-8494-46A3-ADE0-3F306885520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4DF15C-2A95-47EB-B698-5110BC67A2E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74D481-739D-4D2F-B8E5-FED881A9BC4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DAE5C9-8406-4CFC-9E38-2A8615050A5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C3F3FB-F4AA-421B-96D4-BF6D48E2585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FA050D-BFF5-46D8-A8D8-1C63D705F83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AED320-07FA-41A2-BDA3-DA85E315BB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90BBAA-CF38-4620-9058-BF1A62E8B2D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690301-2CEB-4EEF-A323-3CE5AD963D8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E6C391-557D-492C-9F99-3AD92A029AE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20E13A-06C1-4505-94D9-EB5F4251328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F3C6E0-3218-43A1-83D2-ED2172177F7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C35F29-ECFC-4F35-9BAD-9F3F387C57C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5E32F4-782E-48FB-93B4-45D9AB527B1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C0F222-B2ED-4CE8-B1C7-E1C2AC73179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63EEC6-2050-40AB-AF1C-73620618DB7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60C4AB-D139-48DC-943F-37891C76751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96DD79-8377-4757-8E25-24F5B2ED710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59C541-E264-47C9-9ED7-28378950748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C46DA4-F401-474F-A424-404C15BC10C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2C3F2A-0498-44F2-8C93-736CCA04A0A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F4B9DB-8CA6-4417-AC89-8665A12FF72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EFCCB9-8E74-4DF8-ACE7-6BF45C1D1D5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E84D7D-53E2-401D-B4B6-1A5BBE0AFDE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A303B1-27D2-4D9D-BA83-C3E083A9A9F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694118-02B7-4B06-BD18-B4B2B43A3EB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4BD396-D241-43B8-8A48-93246C477E1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FC7983-0F3D-45A5-BF21-8EE05572DCA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4A58FE-396F-4145-B879-E82C9EEDB96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600497-6305-4D85-9CA1-CF44E27BAE4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A9E4CF-2EBF-4B5D-ACF7-63222368AA86}"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A3F629-1915-4FA2-A9AC-2D574D2D75F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754CFE-B901-4B08-B491-A898AD2108E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87DDCC-E34E-457A-8AA3-1EE267433DD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928F33-72F9-47AB-88C2-42905A476E4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E03230-1026-4C3E-9B77-9788F5D8DFB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FE0D1AFB-0DC0-47C6-8682-1E33E9E36B9B}"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E96191-A8F2-429B-B91D-9396E651887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0F0248-0891-47E3-BBD9-25F9B80AA22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CC21A7-4BE8-4C83-87EC-1C1366E6DC2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136214-F785-4347-963D-A95D98093CA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DF353D-CFC9-4625-9262-842341E4B9AA}"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299751-6E25-40C9-B625-F4C3C9528DD5}"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004AA8-8702-425A-B6DB-492E276BBC6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E8A4F9-17C8-4170-A465-F06AD8441A8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6941A8-2778-476F-8CA6-648424D10BD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471A77-39C3-473C-B8A9-679AD1165DDB}"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D73165-2416-4D4C-8172-5A44759D8E7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2769BB0B-390C-48AB-AA55-1E86574E2500}"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0B1B1E-26B2-4254-B78B-27EF9D836EE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A47BE3-D39A-4B0B-AFA8-9C2355D8411C}"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AB4274-1889-4608-9B3A-3F14804F091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3723E7-E7F4-4D82-BF3C-B3C758BF509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AF5957-A099-4085-B507-42AFD33E9B0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0B94A8-8B87-4725-8D64-37DC83B3131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68EE76-D196-4145-885C-F686B32DE6F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8C8FAA-AB74-487A-BF9C-35FDE8CF003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9D5578-1FE2-4E38-A1FE-94FF06C6358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D2C4D5-EB91-4B11-A4E6-5D49886F897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5CD6C4-4F43-4182-B088-F8DB7FB9419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